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0D6-0D71-48D9-9D28-D63C89AE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38E-049C-4552-A458-5D18C268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C1D-10CC-42F0-86E5-199AF016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772-1AB1-4FC3-AF20-9B7CBA4A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772-D688-4505-B0EF-86B5D6A8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790-E55D-48A2-9DCA-953956D2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CE9-EA70-4094-BD11-ACD9D030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03A-D7FB-44E6-96A8-04592EB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2FF-AB10-413E-9720-2DA2D11C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4FD-42AB-484C-960E-2ADB9EAF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0C1-BE31-4E5D-92B1-39FD35FD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646-2938-403C-B94D-8BEA6F43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9D69-A18B-4D1E-8B96-8E1C0144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ortoplano </a:t>
            </a:r>
            <a:br>
              <a:rPr sz="44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finitaj element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809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todo de diskretaj element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traba element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triangula element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rektangula ele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8098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ergia ekvaci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de CASTIGLIAN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pri reciprokeco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de BETTIE-MAXWEL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oremo pei reciprokeco de intenaj grandoj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kvaciaro de 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1028880" y="38671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05756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3794"/>
                </a:moveTo>
                <a:lnTo>
                  <a:pt x="23168" y="10800"/>
                </a:lnTo>
                <a:lnTo>
                  <a:pt x="91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24800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3794"/>
                </a:moveTo>
                <a:lnTo>
                  <a:pt x="23168" y="10800"/>
                </a:lnTo>
                <a:lnTo>
                  <a:pt x="91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438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4640" y="385776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95880" y="422928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3480" y="6334200"/>
            <a:ext cx="8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io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086520" y="704880"/>
            <a:ext cx="3057480" cy="4543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0"/>
          <a:ext cx="544680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468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286680" y="152280"/>
            <a:ext cx="23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Laboro  &amp; En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62800" y="80964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ekva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0040" y="3038400"/>
            <a:ext cx="23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de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 BETTIE-MAX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10320" y="3733920"/>
            <a:ext cx="22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pri reciprokeco de internaj gran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81880" y="2190600"/>
            <a:ext cx="19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pri reciprokeco de grando-a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992840" y="461880"/>
          <a:ext cx="144432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2840" y="461880"/>
                    <a:ext cx="14443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049720" y="1833480"/>
          <a:ext cx="1444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9720" y="1833480"/>
                    <a:ext cx="1444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5059440" y="2657520"/>
          <a:ext cx="144468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59440" y="2657520"/>
                    <a:ext cx="14446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040360" y="3409920"/>
          <a:ext cx="14446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40360" y="3409920"/>
                    <a:ext cx="14446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6543720" y="1409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eoremo de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 CASTIG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030640" y="1042920"/>
          <a:ext cx="1444680" cy="79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30640" y="1042920"/>
                    <a:ext cx="1444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0" y="5124600"/>
            <a:ext cx="5372280" cy="1733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6400800" y="87624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10160" y="3086280"/>
            <a:ext cx="181080" cy="18072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0720"/>
              <a:gd name="textAreaBottom" fmla="*/ 169200 h 18072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3794"/>
                </a:moveTo>
                <a:lnTo>
                  <a:pt x="17828" y="10800"/>
                </a:lnTo>
                <a:lnTo>
                  <a:pt x="381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224784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91440" y="1457280"/>
            <a:ext cx="180720" cy="181080"/>
          </a:xfrm>
          <a:custGeom>
            <a:avLst/>
            <a:gdLst>
              <a:gd name="textAreaLeft" fmla="*/ 11520 w 180720"/>
              <a:gd name="textAreaRight" fmla="*/ 169200 w 18072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3815"/>
                </a:moveTo>
                <a:lnTo>
                  <a:pt x="17806" y="10821"/>
                </a:lnTo>
                <a:lnTo>
                  <a:pt x="3794" y="178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474336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10160" y="3828960"/>
            <a:ext cx="181080" cy="181080"/>
          </a:xfrm>
          <a:custGeom>
            <a:avLst/>
            <a:gdLst>
              <a:gd name="textAreaLeft" fmla="*/ 11520 w 181080"/>
              <a:gd name="textAreaRight" fmla="*/ 169560 w 181080"/>
              <a:gd name="textAreaTop" fmla="*/ 11520 h 181080"/>
              <a:gd name="textAreaBottom" fmla="*/ 1695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81880" y="771480"/>
            <a:ext cx="0" cy="412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5880" y="5495760"/>
            <a:ext cx="44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aboro &amp; Energio - unuigo de mekanikaj event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14800" y="2048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33520" y="1190160"/>
            <a:ext cx="1526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286000" y="1238040"/>
            <a:ext cx="1810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219400" y="1333080"/>
            <a:ext cx="2188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90600" y="1390320"/>
            <a:ext cx="2001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152800" y="1467000"/>
            <a:ext cx="228600" cy="5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124000" y="1495080"/>
            <a:ext cx="2667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76480" y="1581120"/>
            <a:ext cx="324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29080" y="3543480"/>
            <a:ext cx="304560" cy="5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695680" y="3600360"/>
            <a:ext cx="2570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771640" y="3610080"/>
            <a:ext cx="2574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838600" y="3657600"/>
            <a:ext cx="2952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371484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00680" y="1504800"/>
            <a:ext cx="56880" cy="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1880" y="1571760"/>
            <a:ext cx="10476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1666800"/>
            <a:ext cx="142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24360" y="1743120"/>
            <a:ext cx="209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14640" y="1819440"/>
            <a:ext cx="190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48000" y="1114560"/>
            <a:ext cx="856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059440" y="4211640"/>
          <a:ext cx="1444680" cy="97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59440" y="4211640"/>
                    <a:ext cx="144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620040" y="4676760"/>
            <a:ext cx="22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kvacioj de 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114800" y="809640"/>
          <a:ext cx="4896000" cy="53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09640"/>
                    <a:ext cx="489600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66680" y="3027240"/>
          <a:ext cx="3780000" cy="23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027240"/>
                    <a:ext cx="37800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1590840" y="3591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90840" y="43718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90840" y="428616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743040"/>
            <a:ext cx="4714920" cy="56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ergia ekvacio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nekto de geometria kaj statika flankoj gvidas al nova shtupo de analizado. Ni eliru el mekanika nocio de laboro (L), kiun oni difinas kiel skalara produkto de forto- kaj transloko-vektoro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boro = (forto)(vojo)cos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ie α estas angulo inter direktoj de forto kaj voj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ue ni pritraktas nur komponantojn de vojo kies direkto kongruas kun fortodirekto, tio signifas, ke chiam cosα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 distingos kunligitaj paroj: eksteraj fortoj Q kaj translokoj q, krome internaj fortoj U kun deformoj 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alogie ni difinos la eksteran kaj internan laborojn de konstruajho: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 =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escepte oni devas atenti fakton ke forto kreskas el nulo al fina  grando, do el integracio  aperos en supraj produktoj koeficiento ½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kte, sumo de intera kaj ekstera laboroj  estas nu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(energia ekvaci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i povas ankau tion interpreti, kiel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 = - </a:t>
            </a:r>
            <a:r>
              <a:rPr b="1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  supra principa legho de fiziko oni  difinis la bazajn teoriojn de mekaniko, kies strukturojn  ni nun ekspliko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523960" y="2257560"/>
            <a:ext cx="1762200" cy="113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0160" y="2266920"/>
            <a:ext cx="1628640" cy="1152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96080" y="6200640"/>
            <a:ext cx="2800080" cy="657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43120" y="6248520"/>
            <a:ext cx="251460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76760" y="447840"/>
            <a:ext cx="37242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bo fleks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boro de eksternaj forto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stas kalkulebla nur se oni konas vojo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Por tio oni devus solvi tutan konstrukcion. Pli facile estas prikalkuli internan, elastan energio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urbaze de internaj forto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aj  respektivaj deformo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r chiuj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komponantoj ni konas la rigidec-faktoron K, kiu au estas konstanta por chiu trabo-trancho x, au varias lau trabo-akso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 komponantojn de energio oni legu el kuplografo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66800" y="13716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52760" y="136224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85760" y="1371600"/>
            <a:ext cx="7488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33800" y="135252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81160" y="1131840"/>
            <a:ext cx="1962000" cy="258840"/>
          </a:xfrm>
          <a:custGeom>
            <a:avLst/>
            <a:gdLst/>
            <a:ahLst/>
            <a:rect l="l" t="t" r="r" b="b"/>
            <a:pathLst>
              <a:path w="1236" h="169">
                <a:moveTo>
                  <a:pt x="1236" y="163"/>
                </a:moveTo>
                <a:cubicBezTo>
                  <a:pt x="1039" y="81"/>
                  <a:pt x="842" y="0"/>
                  <a:pt x="636" y="1"/>
                </a:cubicBezTo>
                <a:cubicBezTo>
                  <a:pt x="430" y="2"/>
                  <a:pt x="215" y="85"/>
                  <a:pt x="0" y="16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90504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4680" y="1428840"/>
            <a:ext cx="447480" cy="552240"/>
          </a:xfrm>
          <a:custGeom>
            <a:avLst/>
            <a:gdLst/>
            <a:ahLst/>
            <a:rect l="l" t="t" r="r" b="b"/>
            <a:pathLst>
              <a:path w="282" h="348">
                <a:moveTo>
                  <a:pt x="0" y="0"/>
                </a:moveTo>
                <a:cubicBezTo>
                  <a:pt x="51" y="43"/>
                  <a:pt x="103" y="86"/>
                  <a:pt x="150" y="144"/>
                </a:cubicBezTo>
                <a:cubicBezTo>
                  <a:pt x="197" y="202"/>
                  <a:pt x="239" y="275"/>
                  <a:pt x="282" y="3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123280" y="1447920"/>
            <a:ext cx="428760" cy="542880"/>
          </a:xfrm>
          <a:custGeom>
            <a:avLst/>
            <a:gdLst/>
            <a:ahLst/>
            <a:rect l="l" t="t" r="r" b="b"/>
            <a:pathLst>
              <a:path w="282" h="348">
                <a:moveTo>
                  <a:pt x="0" y="0"/>
                </a:moveTo>
                <a:cubicBezTo>
                  <a:pt x="51" y="43"/>
                  <a:pt x="103" y="86"/>
                  <a:pt x="150" y="144"/>
                </a:cubicBezTo>
                <a:cubicBezTo>
                  <a:pt x="197" y="202"/>
                  <a:pt x="239" y="275"/>
                  <a:pt x="282" y="3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85840" y="1847880"/>
            <a:ext cx="133560" cy="123840"/>
          </a:xfrm>
          <a:custGeom>
            <a:avLst/>
            <a:gdLst/>
            <a:ahLst/>
            <a:rect l="l" t="t" r="r" b="b"/>
            <a:pathLst>
              <a:path w="84" h="78">
                <a:moveTo>
                  <a:pt x="0" y="0"/>
                </a:moveTo>
                <a:lnTo>
                  <a:pt x="36" y="78"/>
                </a:lnTo>
                <a:lnTo>
                  <a:pt x="8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24000" y="1847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1332000"/>
            <a:ext cx="800280" cy="68040"/>
          </a:xfrm>
          <a:custGeom>
            <a:avLst/>
            <a:gdLst/>
            <a:ahLst/>
            <a:rect l="l" t="t" r="r" b="b"/>
            <a:pathLst>
              <a:path w="504" h="43">
                <a:moveTo>
                  <a:pt x="504" y="43"/>
                </a:moveTo>
                <a:cubicBezTo>
                  <a:pt x="423" y="22"/>
                  <a:pt x="342" y="2"/>
                  <a:pt x="258" y="1"/>
                </a:cubicBezTo>
                <a:cubicBezTo>
                  <a:pt x="174" y="0"/>
                  <a:pt x="87" y="18"/>
                  <a:pt x="0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29080" y="1419120"/>
            <a:ext cx="495000" cy="57240"/>
          </a:xfrm>
          <a:custGeom>
            <a:avLst/>
            <a:gdLst/>
            <a:ahLst/>
            <a:rect l="l" t="t" r="r" b="b"/>
            <a:pathLst>
              <a:path w="312" h="36">
                <a:moveTo>
                  <a:pt x="0" y="0"/>
                </a:moveTo>
                <a:cubicBezTo>
                  <a:pt x="49" y="18"/>
                  <a:pt x="98" y="36"/>
                  <a:pt x="150" y="36"/>
                </a:cubicBezTo>
                <a:cubicBezTo>
                  <a:pt x="202" y="36"/>
                  <a:pt x="285" y="6"/>
                  <a:pt x="3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8120" y="108576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81000" y="10954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48000" y="142884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33600" y="1400040"/>
            <a:ext cx="3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040" y="2771640"/>
            <a:ext cx="1209600" cy="86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43200" y="2743200"/>
            <a:ext cx="120960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2752560"/>
            <a:ext cx="1219320" cy="152640"/>
          </a:xfrm>
          <a:custGeom>
            <a:avLst/>
            <a:gdLst/>
            <a:ahLst/>
            <a:rect l="l" t="t" r="r" b="b"/>
            <a:pathLst>
              <a:path w="750" h="102">
                <a:moveTo>
                  <a:pt x="0" y="0"/>
                </a:moveTo>
                <a:lnTo>
                  <a:pt x="0" y="102"/>
                </a:lnTo>
                <a:lnTo>
                  <a:pt x="84" y="78"/>
                </a:lnTo>
                <a:lnTo>
                  <a:pt x="180" y="60"/>
                </a:lnTo>
                <a:lnTo>
                  <a:pt x="288" y="54"/>
                </a:lnTo>
                <a:lnTo>
                  <a:pt x="390" y="42"/>
                </a:lnTo>
                <a:lnTo>
                  <a:pt x="480" y="54"/>
                </a:lnTo>
                <a:lnTo>
                  <a:pt x="582" y="66"/>
                </a:lnTo>
                <a:lnTo>
                  <a:pt x="672" y="84"/>
                </a:lnTo>
                <a:lnTo>
                  <a:pt x="750" y="102"/>
                </a:lnTo>
                <a:lnTo>
                  <a:pt x="75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52360" y="25812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62240" y="2666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14840" y="257184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7360" y="3086280"/>
            <a:ext cx="11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,G, A, J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67040" y="30002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,G, A(x), J(x)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66880" y="2476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2440" y="24861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=k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19240" y="128592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43160" y="3867120"/>
            <a:ext cx="419040" cy="1467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285280" y="4200480"/>
            <a:ext cx="762120" cy="1333440"/>
          </a:xfrm>
          <a:custGeom>
            <a:avLst/>
            <a:gdLst/>
            <a:ahLst/>
            <a:rect l="l" t="t" r="r" b="b"/>
            <a:pathLst>
              <a:path w="480" h="840">
                <a:moveTo>
                  <a:pt x="0" y="0"/>
                </a:moveTo>
                <a:cubicBezTo>
                  <a:pt x="98" y="137"/>
                  <a:pt x="196" y="274"/>
                  <a:pt x="276" y="414"/>
                </a:cubicBezTo>
                <a:cubicBezTo>
                  <a:pt x="356" y="554"/>
                  <a:pt x="418" y="697"/>
                  <a:pt x="480" y="8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04840" y="3657600"/>
            <a:ext cx="2514600" cy="3021840"/>
            <a:chOff x="1104840" y="3657600"/>
            <a:chExt cx="2514600" cy="3021840"/>
          </a:xfrm>
        </p:grpSpPr>
        <p:grpSp>
          <p:nvGrpSpPr>
            <p:cNvPr id="493" name=""/>
            <p:cNvGrpSpPr/>
            <p:nvPr/>
          </p:nvGrpSpPr>
          <p:grpSpPr>
            <a:xfrm>
              <a:off x="3009960" y="4143240"/>
              <a:ext cx="84240" cy="493920"/>
              <a:chOff x="3009960" y="4143240"/>
              <a:chExt cx="84240" cy="493920"/>
            </a:xfrm>
          </p:grpSpPr>
          <p:sp>
            <p:nvSpPr>
              <p:cNvPr id="494" name=""/>
              <p:cNvSpPr/>
              <p:nvPr/>
            </p:nvSpPr>
            <p:spPr>
              <a:xfrm>
                <a:off x="3009960" y="4562640"/>
                <a:ext cx="74880" cy="745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9680" y="4143240"/>
                <a:ext cx="74520" cy="74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009960" y="5038560"/>
              <a:ext cx="74520" cy="74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86080" y="5057640"/>
              <a:ext cx="74520" cy="74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86080" y="456264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6080" y="411480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90840" y="4046400"/>
              <a:ext cx="1409400" cy="12564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71760" y="4503600"/>
              <a:ext cx="1419120" cy="7776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71760" y="4998960"/>
              <a:ext cx="1409400" cy="7452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47960" y="3914640"/>
              <a:ext cx="399960" cy="1428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42960" y="512460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33600" y="4638600"/>
              <a:ext cx="76176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52680" y="4200480"/>
              <a:ext cx="76176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304360" y="462924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04360" y="509580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38480" y="5353200"/>
              <a:ext cx="123840" cy="16164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38480" y="5810400"/>
              <a:ext cx="123840" cy="16164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38480" y="627696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85840" y="5095800"/>
              <a:ext cx="438120" cy="14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95480" y="367668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28840" y="36576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19440" y="637236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91040" y="445788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52880" y="49338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3160" y="40672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52360" y="399096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04840" y="44388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71440" y="494352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248440" y="3610080"/>
            <a:ext cx="2590560" cy="3021480"/>
            <a:chOff x="5248440" y="3610080"/>
            <a:chExt cx="2590560" cy="3021480"/>
          </a:xfrm>
        </p:grpSpPr>
        <p:grpSp>
          <p:nvGrpSpPr>
            <p:cNvPr id="523" name=""/>
            <p:cNvGrpSpPr/>
            <p:nvPr/>
          </p:nvGrpSpPr>
          <p:grpSpPr>
            <a:xfrm>
              <a:off x="7153200" y="4095720"/>
              <a:ext cx="84240" cy="493920"/>
              <a:chOff x="7153200" y="4095720"/>
              <a:chExt cx="84240" cy="493920"/>
            </a:xfrm>
          </p:grpSpPr>
          <p:sp>
            <p:nvSpPr>
              <p:cNvPr id="524" name=""/>
              <p:cNvSpPr/>
              <p:nvPr/>
            </p:nvSpPr>
            <p:spPr>
              <a:xfrm>
                <a:off x="7153200" y="4515120"/>
                <a:ext cx="74880" cy="745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62920" y="4095720"/>
                <a:ext cx="74520" cy="74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7153200" y="499104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29320" y="501012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29320" y="4514760"/>
              <a:ext cx="74520" cy="74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29320" y="4067280"/>
              <a:ext cx="74520" cy="74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34080" y="3998880"/>
              <a:ext cx="1409760" cy="12528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15000" y="4456080"/>
              <a:ext cx="1419120" cy="7776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15000" y="4951440"/>
              <a:ext cx="1409760" cy="74520"/>
            </a:xfrm>
            <a:custGeom>
              <a:avLst/>
              <a:gdLst/>
              <a:ahLst/>
              <a:rect l="l" t="t" r="r" b="b"/>
              <a:pathLst>
                <a:path w="504" h="43">
                  <a:moveTo>
                    <a:pt x="504" y="43"/>
                  </a:moveTo>
                  <a:cubicBezTo>
                    <a:pt x="423" y="22"/>
                    <a:pt x="342" y="2"/>
                    <a:pt x="258" y="1"/>
                  </a:cubicBezTo>
                  <a:cubicBezTo>
                    <a:pt x="174" y="0"/>
                    <a:pt x="87" y="18"/>
                    <a:pt x="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1200" y="3867120"/>
              <a:ext cx="400320" cy="1428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6560" y="5076720"/>
              <a:ext cx="76176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76840" y="459108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95920" y="415296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447600" y="4581360"/>
              <a:ext cx="762120" cy="133380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447600" y="5048280"/>
              <a:ext cx="762120" cy="1333440"/>
            </a:xfrm>
            <a:custGeom>
              <a:avLst/>
              <a:gdLst/>
              <a:ahLst/>
              <a:rect l="l" t="t" r="r" b="b"/>
              <a:pathLst>
                <a:path w="480" h="840">
                  <a:moveTo>
                    <a:pt x="0" y="0"/>
                  </a:moveTo>
                  <a:cubicBezTo>
                    <a:pt x="98" y="137"/>
                    <a:pt x="196" y="274"/>
                    <a:pt x="276" y="414"/>
                  </a:cubicBezTo>
                  <a:cubicBezTo>
                    <a:pt x="356" y="554"/>
                    <a:pt x="418" y="697"/>
                    <a:pt x="480" y="84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81720" y="530532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81720" y="576252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81720" y="6229440"/>
              <a:ext cx="123840" cy="16200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36" y="102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36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29440" y="5048280"/>
              <a:ext cx="438120" cy="14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39080" y="36291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080" y="361008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2680" y="632448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34280" y="44100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96120" y="488628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86760" y="4019400"/>
              <a:ext cx="49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95960" y="394344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48440" y="439092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15040" y="489600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505480" y="3857760"/>
            <a:ext cx="419040" cy="1466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428520" y="4143240"/>
            <a:ext cx="762120" cy="1333800"/>
          </a:xfrm>
          <a:custGeom>
            <a:avLst/>
            <a:gdLst/>
            <a:ahLst/>
            <a:rect l="l" t="t" r="r" b="b"/>
            <a:pathLst>
              <a:path w="480" h="840">
                <a:moveTo>
                  <a:pt x="0" y="0"/>
                </a:moveTo>
                <a:cubicBezTo>
                  <a:pt x="98" y="137"/>
                  <a:pt x="196" y="274"/>
                  <a:pt x="276" y="414"/>
                </a:cubicBezTo>
                <a:cubicBezTo>
                  <a:pt x="356" y="554"/>
                  <a:pt x="418" y="697"/>
                  <a:pt x="480" y="8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14680" y="2314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3114720"/>
            <a:ext cx="74880" cy="399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91280" y="284796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67360" y="6276960"/>
            <a:ext cx="219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55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72360" y="5524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2000">
                <a:solidFill>
                  <a:srgbClr val="000000"/>
                </a:solidFill>
                <a:latin typeface="Symbol"/>
                <a:ea typeface="Symbol"/>
              </a:rPr>
              <a:t>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72360" y="6000840"/>
            <a:ext cx="1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2000">
                <a:solidFill>
                  <a:srgbClr val="000000"/>
                </a:solidFill>
                <a:latin typeface="Symbol"/>
                <a:ea typeface="Symbol"/>
              </a:rPr>
              <a:t>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8640" y="628668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77000" y="346716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(x), J(x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9680" y="23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9560" y="23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9960" y="24670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95320" y="2238480"/>
            <a:ext cx="2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743200" y="233316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245736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19240" y="427680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/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90800" y="4762440"/>
            <a:ext cx="6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/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48040" y="377208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/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3080" y="51148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143080" y="603900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33720" y="559116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38800" y="598176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81720" y="5038560"/>
            <a:ext cx="2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2000">
                <a:solidFill>
                  <a:srgbClr val="000000"/>
                </a:solidFill>
                <a:latin typeface="Symbol"/>
                <a:ea typeface="Symbol"/>
              </a:rPr>
              <a:t>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8800" y="550548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502920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00960" y="630540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05600" y="376236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/EJ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76800" y="42292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/EA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05600" y="4743360"/>
            <a:ext cx="9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x/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A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52840" y="628668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52760" y="635328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—— + —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552760" y="6267600"/>
            <a:ext cx="1590480" cy="466920"/>
            <a:chOff x="2552760" y="6267600"/>
            <a:chExt cx="1590480" cy="466920"/>
          </a:xfrm>
        </p:grpSpPr>
        <p:sp>
          <p:nvSpPr>
            <p:cNvPr id="585" name=""/>
            <p:cNvSpPr/>
            <p:nvPr/>
          </p:nvSpPr>
          <p:spPr>
            <a:xfrm>
              <a:off x="2581200" y="626760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57480" y="627696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2760" y="645804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E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29040" y="645804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05320" y="64580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6953400" y="6315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—— + —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953400" y="6230880"/>
            <a:ext cx="1590480" cy="466920"/>
            <a:chOff x="6953400" y="6230880"/>
            <a:chExt cx="1590480" cy="466920"/>
          </a:xfrm>
        </p:grpSpPr>
        <p:sp>
          <p:nvSpPr>
            <p:cNvPr id="592" name=""/>
            <p:cNvSpPr/>
            <p:nvPr/>
          </p:nvSpPr>
          <p:spPr>
            <a:xfrm>
              <a:off x="6981840" y="623088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58120" y="624024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53400" y="642132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29680" y="642132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05960" y="6421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924680" y="624852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238960" y="62676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05520" y="6621480"/>
            <a:ext cx="46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48640" y="6153120"/>
            <a:ext cx="23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4991040" y="361800"/>
            <a:ext cx="4029120" cy="13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de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CASTIGL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Ghenerala form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ransloko de punkto egalas je parta derivacio de interna energio E lau kunligita forto Q 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520560" y="0"/>
          <a:ext cx="36705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0"/>
                    <a:ext cx="36705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47920" y="1447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57200" y="1905120"/>
          <a:ext cx="3505320" cy="22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35053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2009880" y="524844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2666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14600" y="2743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ff3300"/>
                </a:solidFill>
                <a:latin typeface="Symbol"/>
                <a:ea typeface="Symbol"/>
              </a:rPr>
              <a:t>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57200" y="4419720"/>
          <a:ext cx="3352680" cy="22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19720"/>
                    <a:ext cx="33526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3" name=""/>
          <p:cNvGrpSpPr/>
          <p:nvPr/>
        </p:nvGrpSpPr>
        <p:grpSpPr>
          <a:xfrm>
            <a:off x="6143760" y="1638360"/>
            <a:ext cx="933480" cy="748800"/>
            <a:chOff x="6143760" y="1638360"/>
            <a:chExt cx="933480" cy="748800"/>
          </a:xfrm>
        </p:grpSpPr>
        <p:sp>
          <p:nvSpPr>
            <p:cNvPr id="614" name=""/>
            <p:cNvSpPr/>
            <p:nvPr/>
          </p:nvSpPr>
          <p:spPr>
            <a:xfrm>
              <a:off x="6143760" y="174312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 =  ------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6553440" y="1638360"/>
              <a:ext cx="428400" cy="748800"/>
              <a:chOff x="6553440" y="1638360"/>
              <a:chExt cx="428400" cy="748800"/>
            </a:xfrm>
          </p:grpSpPr>
          <p:sp>
            <p:nvSpPr>
              <p:cNvPr id="616" name=""/>
              <p:cNvSpPr/>
              <p:nvPr/>
            </p:nvSpPr>
            <p:spPr>
              <a:xfrm>
                <a:off x="6562800" y="1866960"/>
                <a:ext cx="409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53440" y="1638360"/>
                <a:ext cx="42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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5029200" y="2409840"/>
            <a:ext cx="35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terna energio egal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86360" y="28576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= 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15280" y="277164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1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34000" y="296244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62600" y="28479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72280" y="32860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 -----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715000" y="3181320"/>
            <a:ext cx="498240" cy="535680"/>
            <a:chOff x="5715000" y="3181320"/>
            <a:chExt cx="498240" cy="535680"/>
          </a:xfrm>
        </p:grpSpPr>
        <p:sp>
          <p:nvSpPr>
            <p:cNvPr id="625" name=""/>
            <p:cNvSpPr/>
            <p:nvPr/>
          </p:nvSpPr>
          <p:spPr>
            <a:xfrm>
              <a:off x="5725800" y="3409920"/>
              <a:ext cx="47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000" y="3181320"/>
              <a:ext cx="4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800760" y="33717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515280" y="3162240"/>
            <a:ext cx="432720" cy="546840"/>
            <a:chOff x="6515280" y="3162240"/>
            <a:chExt cx="432720" cy="546840"/>
          </a:xfrm>
        </p:grpSpPr>
        <p:sp>
          <p:nvSpPr>
            <p:cNvPr id="629" name=""/>
            <p:cNvSpPr/>
            <p:nvPr/>
          </p:nvSpPr>
          <p:spPr>
            <a:xfrm>
              <a:off x="6524640" y="3402000"/>
              <a:ext cx="41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15280" y="3162240"/>
              <a:ext cx="4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6772320" y="319104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43560" y="328608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10320" y="3419640"/>
            <a:ext cx="20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29640" y="317196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19960" y="326232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39000" y="339084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53160" y="3267000"/>
            <a:ext cx="409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077240" y="3257640"/>
            <a:ext cx="3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0000" y="4019400"/>
            <a:ext cx="454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konstantaj parametroj K oni povas integracii geometrie: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4419720"/>
            <a:ext cx="3124440" cy="561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24360" y="4924440"/>
            <a:ext cx="1495440" cy="160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62600" y="4543560"/>
            <a:ext cx="4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19520" y="456732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34000" y="4562640"/>
            <a:ext cx="409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381560" y="5353200"/>
            <a:ext cx="82872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8040" y="6410160"/>
            <a:ext cx="50472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229600" y="4334040"/>
            <a:ext cx="3618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19800" y="4971960"/>
            <a:ext cx="311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153280" y="6324480"/>
            <a:ext cx="61920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38800" y="58197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38800" y="62294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38960" y="47340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47433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29080" y="5124600"/>
            <a:ext cx="733320" cy="237960"/>
          </a:xfrm>
          <a:custGeom>
            <a:avLst/>
            <a:gdLst/>
            <a:ahLst/>
            <a:rect l="l" t="t" r="r" b="b"/>
            <a:pathLst>
              <a:path w="462" h="150">
                <a:moveTo>
                  <a:pt x="0" y="144"/>
                </a:moveTo>
                <a:lnTo>
                  <a:pt x="0" y="0"/>
                </a:lnTo>
                <a:lnTo>
                  <a:pt x="462" y="0"/>
                </a:lnTo>
                <a:lnTo>
                  <a:pt x="462" y="150"/>
                </a:lnTo>
                <a:lnTo>
                  <a:pt x="0" y="14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62440" y="521028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48160" y="5562720"/>
            <a:ext cx="714240" cy="257040"/>
          </a:xfrm>
          <a:custGeom>
            <a:avLst/>
            <a:gdLst/>
            <a:ahLst/>
            <a:rect l="l" t="t" r="r" b="b"/>
            <a:pathLst>
              <a:path w="450" h="162">
                <a:moveTo>
                  <a:pt x="0" y="156"/>
                </a:moveTo>
                <a:lnTo>
                  <a:pt x="450" y="0"/>
                </a:lnTo>
                <a:lnTo>
                  <a:pt x="450" y="162"/>
                </a:lnTo>
                <a:lnTo>
                  <a:pt x="0" y="15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57880" y="6039000"/>
            <a:ext cx="714240" cy="199800"/>
          </a:xfrm>
          <a:custGeom>
            <a:avLst/>
            <a:gdLst/>
            <a:ahLst/>
            <a:rect l="l" t="t" r="r" b="b"/>
            <a:pathLst>
              <a:path w="492" h="120">
                <a:moveTo>
                  <a:pt x="0" y="120"/>
                </a:moveTo>
                <a:lnTo>
                  <a:pt x="48" y="84"/>
                </a:lnTo>
                <a:lnTo>
                  <a:pt x="120" y="36"/>
                </a:lnTo>
                <a:lnTo>
                  <a:pt x="228" y="0"/>
                </a:lnTo>
                <a:lnTo>
                  <a:pt x="330" y="12"/>
                </a:lnTo>
                <a:lnTo>
                  <a:pt x="414" y="48"/>
                </a:lnTo>
                <a:lnTo>
                  <a:pt x="468" y="90"/>
                </a:lnTo>
                <a:lnTo>
                  <a:pt x="492" y="120"/>
                </a:lnTo>
                <a:lnTo>
                  <a:pt x="0" y="12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00600" y="6114960"/>
            <a:ext cx="74520" cy="7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05360" y="5715000"/>
            <a:ext cx="7452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0600" y="51814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19720" y="54770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429080" y="5410080"/>
            <a:ext cx="733320" cy="133560"/>
            <a:chOff x="4429080" y="5410080"/>
            <a:chExt cx="733320" cy="133560"/>
          </a:xfrm>
        </p:grpSpPr>
        <p:sp>
          <p:nvSpPr>
            <p:cNvPr id="663" name=""/>
            <p:cNvSpPr/>
            <p:nvPr/>
          </p:nvSpPr>
          <p:spPr>
            <a:xfrm>
              <a:off x="4429080" y="542916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62400" y="541008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457880" y="6286680"/>
            <a:ext cx="733320" cy="132840"/>
            <a:chOff x="4457880" y="6286680"/>
            <a:chExt cx="733320" cy="132840"/>
          </a:xfrm>
        </p:grpSpPr>
        <p:sp>
          <p:nvSpPr>
            <p:cNvPr id="666" name=""/>
            <p:cNvSpPr/>
            <p:nvPr/>
          </p:nvSpPr>
          <p:spPr>
            <a:xfrm>
              <a:off x="4457880" y="63054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91200" y="628668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467240" y="6372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38760" y="61340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438800" y="5753160"/>
            <a:ext cx="771480" cy="256320"/>
            <a:chOff x="4438800" y="5753160"/>
            <a:chExt cx="771480" cy="256320"/>
          </a:xfrm>
        </p:grpSpPr>
        <p:grpSp>
          <p:nvGrpSpPr>
            <p:cNvPr id="671" name=""/>
            <p:cNvGrpSpPr/>
            <p:nvPr/>
          </p:nvGrpSpPr>
          <p:grpSpPr>
            <a:xfrm>
              <a:off x="4438800" y="5876640"/>
              <a:ext cx="771480" cy="132840"/>
              <a:chOff x="4438800" y="5876640"/>
              <a:chExt cx="771480" cy="13284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4438800" y="5876640"/>
                <a:ext cx="733320" cy="132840"/>
                <a:chOff x="4438800" y="5876640"/>
                <a:chExt cx="733320" cy="1328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438800" y="58953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172120" y="587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" name=""/>
              <p:cNvSpPr/>
              <p:nvPr/>
            </p:nvSpPr>
            <p:spPr>
              <a:xfrm>
                <a:off x="4448160" y="5961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4943520" y="575316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5543640" y="4524480"/>
            <a:ext cx="73332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00880" y="47433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58040" y="4495680"/>
            <a:ext cx="743040" cy="238320"/>
          </a:xfrm>
          <a:custGeom>
            <a:avLst/>
            <a:gdLst/>
            <a:ahLst/>
            <a:rect l="l" t="t" r="r" b="b"/>
            <a:pathLst>
              <a:path w="468" h="150">
                <a:moveTo>
                  <a:pt x="0" y="150"/>
                </a:moveTo>
                <a:lnTo>
                  <a:pt x="468" y="0"/>
                </a:lnTo>
                <a:lnTo>
                  <a:pt x="468" y="150"/>
                </a:lnTo>
                <a:lnTo>
                  <a:pt x="0" y="1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400880" y="4505400"/>
            <a:ext cx="743040" cy="237960"/>
          </a:xfrm>
          <a:custGeom>
            <a:avLst/>
            <a:gdLst/>
            <a:ahLst/>
            <a:rect l="l" t="t" r="r" b="b"/>
            <a:pathLst>
              <a:path w="468" h="150">
                <a:moveTo>
                  <a:pt x="0" y="150"/>
                </a:moveTo>
                <a:lnTo>
                  <a:pt x="468" y="0"/>
                </a:lnTo>
                <a:lnTo>
                  <a:pt x="468" y="150"/>
                </a:lnTo>
                <a:lnTo>
                  <a:pt x="0" y="1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562720" y="5505480"/>
            <a:ext cx="771480" cy="256320"/>
            <a:chOff x="5562720" y="5505480"/>
            <a:chExt cx="771480" cy="256320"/>
          </a:xfrm>
        </p:grpSpPr>
        <p:grpSp>
          <p:nvGrpSpPr>
            <p:cNvPr id="682" name=""/>
            <p:cNvGrpSpPr/>
            <p:nvPr/>
          </p:nvGrpSpPr>
          <p:grpSpPr>
            <a:xfrm>
              <a:off x="5562720" y="5628960"/>
              <a:ext cx="771480" cy="132840"/>
              <a:chOff x="5562720" y="5628960"/>
              <a:chExt cx="771480" cy="13284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562720" y="5628960"/>
                <a:ext cx="733320" cy="132840"/>
                <a:chOff x="5562720" y="5628960"/>
                <a:chExt cx="733320" cy="1328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562720" y="564768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296040" y="56289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5572080" y="5714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6067440" y="550548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515280" y="5495760"/>
            <a:ext cx="771480" cy="257400"/>
            <a:chOff x="6515280" y="5495760"/>
            <a:chExt cx="771480" cy="257400"/>
          </a:xfrm>
        </p:grpSpPr>
        <p:grpSp>
          <p:nvGrpSpPr>
            <p:cNvPr id="689" name=""/>
            <p:cNvGrpSpPr/>
            <p:nvPr/>
          </p:nvGrpSpPr>
          <p:grpSpPr>
            <a:xfrm>
              <a:off x="6515280" y="5619600"/>
              <a:ext cx="771480" cy="133560"/>
              <a:chOff x="6515280" y="5619600"/>
              <a:chExt cx="771480" cy="1335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6515280" y="5619600"/>
                <a:ext cx="733320" cy="133560"/>
                <a:chOff x="6515280" y="5619600"/>
                <a:chExt cx="733320" cy="1335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515280" y="56386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248600" y="561960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6524640" y="5705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7020000" y="54957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419960" y="5495760"/>
            <a:ext cx="771480" cy="257400"/>
            <a:chOff x="7419960" y="5495760"/>
            <a:chExt cx="771480" cy="257400"/>
          </a:xfrm>
        </p:grpSpPr>
        <p:grpSp>
          <p:nvGrpSpPr>
            <p:cNvPr id="696" name=""/>
            <p:cNvGrpSpPr/>
            <p:nvPr/>
          </p:nvGrpSpPr>
          <p:grpSpPr>
            <a:xfrm>
              <a:off x="7419960" y="5619600"/>
              <a:ext cx="771480" cy="133560"/>
              <a:chOff x="7419960" y="5619600"/>
              <a:chExt cx="771480" cy="13356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7419960" y="5619600"/>
                <a:ext cx="733320" cy="133560"/>
                <a:chOff x="7419960" y="5619600"/>
                <a:chExt cx="733320" cy="13356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7419960" y="56386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153280" y="561960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7429320" y="5705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7924680" y="54957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905440" y="471492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05800" y="47052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0" y="47052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19840" y="514368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62440" y="579132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86480" y="544824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53120" y="452448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419960" y="453384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77240" y="452448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38560" y="5581800"/>
            <a:ext cx="171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57880" y="6037200"/>
            <a:ext cx="752400" cy="201600"/>
          </a:xfrm>
          <a:custGeom>
            <a:avLst/>
            <a:gdLst/>
            <a:ahLst/>
            <a:rect l="l" t="t" r="r" b="b"/>
            <a:pathLst>
              <a:path w="468" h="133">
                <a:moveTo>
                  <a:pt x="0" y="133"/>
                </a:moveTo>
                <a:cubicBezTo>
                  <a:pt x="75" y="67"/>
                  <a:pt x="150" y="2"/>
                  <a:pt x="228" y="1"/>
                </a:cubicBezTo>
                <a:cubicBezTo>
                  <a:pt x="306" y="0"/>
                  <a:pt x="428" y="106"/>
                  <a:pt x="468" y="12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95840" y="630540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62520" y="4734000"/>
            <a:ext cx="171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15080" y="471492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91320" y="4734000"/>
            <a:ext cx="171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05440" y="454356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7360" y="461016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9360" y="4552920"/>
            <a:ext cx="0" cy="1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15160" y="460044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67800" y="4638600"/>
            <a:ext cx="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76760" y="6039000"/>
            <a:ext cx="1713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5172120"/>
            <a:ext cx="237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43440" y="5591160"/>
            <a:ext cx="390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3720" y="6039000"/>
            <a:ext cx="4572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La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81600" y="5133960"/>
            <a:ext cx="4572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•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610320" y="5114880"/>
            <a:ext cx="6955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(b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496200" y="5734080"/>
            <a:ext cx="8856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/2)(2b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86560" y="5124600"/>
            <a:ext cx="6955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(b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0" y="5734080"/>
            <a:ext cx="8859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/2)(b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67480" y="5753160"/>
            <a:ext cx="68580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/2)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91160" y="6124680"/>
            <a:ext cx="6764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La/3)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34000" y="6124680"/>
            <a:ext cx="7527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La/3)b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67480" y="6114960"/>
            <a:ext cx="7527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La/3)b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57400" y="3276720"/>
            <a:ext cx="19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1219320"/>
            <a:ext cx="190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29520" y="325764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453360" y="285768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77120" y="324792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95760" y="454356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409680" y="954000"/>
          <a:ext cx="360036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954000"/>
                    <a:ext cx="360036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10000" y="447840"/>
            <a:ext cx="448632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pri reciprokaj grando-a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 al konstukcio agas du aroj da fortoj: kauzoj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 kaj 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, kiuj elvokas respektivajn efikojn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 ,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tiam potenciala laboro de interaj kaj eksternaj fortoj je reciprokaj vojoj (kuplitaj grandoj) egal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j     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 detale: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10080" y="1238400"/>
            <a:ext cx="50472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38520" y="2495520"/>
            <a:ext cx="50472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774720" y="944640"/>
          <a:ext cx="3365640" cy="24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944640"/>
                    <a:ext cx="336564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628560" y="3429000"/>
          <a:ext cx="390528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560" y="3429000"/>
                    <a:ext cx="390528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29040" y="819000"/>
            <a:ext cx="40482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de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BETTIE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boroj de eksteraj fortoj en du siste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 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au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(aparta kazo estas teoremo de</a:t>
            </a: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Maxwell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de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MAXW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r aparta kazo:  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1 , 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 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au             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=  1.q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konata kiel teoremo pri reciprokaj transloko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768240" y="631800"/>
          <a:ext cx="38721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631800"/>
                    <a:ext cx="38721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48120" y="638280"/>
            <a:ext cx="3981600" cy="25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eoremo pri reciprokeco de internaj grand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  i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au            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86360" y="905040"/>
            <a:ext cx="50472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24160" y="2152800"/>
            <a:ext cx="486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o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619200" y="528480"/>
          <a:ext cx="3600360" cy="28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28480"/>
                    <a:ext cx="360036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4705200" y="457200"/>
            <a:ext cx="2590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kvacioj de virtuala la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oro &amp; Ener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494640"/>
            <a:ext cx="3957480" cy="53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Metodo de diskretaj element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et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lekto de elemen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emento estas statike difinita parto de konstrukcio, kies proprecoj (rigideco/fleksibleco) estas konataj. Elementoj povas esti 1-,2-,3-dimensiaj. Nombro da elementoj estas principoe lauvola, sed praktike limigita pere kapablecoj de komputoro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stas eble uzadi pli densan reton da elementoj en statike pli gravaj partoj de konstrukcio.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eta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riskribo de nod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ementoj kuplighas en nodoj. En chiu nodo oni intencas plenumi la gemetriajn kaj statikajn kondichojn. Krome, che 2- /3-dimensiaj elementoj oni shatus plenumi ankau la kontinuec-kondichojn lau la liniaj au ebenaj elemento-randoj. Povas okazi, ke la kontinuec-kondichojn ne estos plenumitaj, tiam oni devas enkonduki korektigan aproksimadom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eta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Solvo de ekvaci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ost difino de kontinuec-ekvacioj oni analizas la tutan ekvaci-sistemon simnile, kiel estas konate en metodo de transok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85800"/>
            <a:ext cx="3924360" cy="1819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400" y="2657520"/>
            <a:ext cx="3943440" cy="2847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0560" y="5134680"/>
            <a:ext cx="811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lemen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6520" y="2220120"/>
            <a:ext cx="822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onstruk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48840" y="4493520"/>
            <a:ext cx="798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-dimen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29600" y="3776040"/>
            <a:ext cx="798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-dimen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1760" y="3010680"/>
            <a:ext cx="798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-dimen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86040" y="3009600"/>
            <a:ext cx="37152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49500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24280" y="2943360"/>
            <a:ext cx="7452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5360" y="2933640"/>
            <a:ext cx="7488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360600" y="2952720"/>
            <a:ext cx="7488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0640" y="3333600"/>
            <a:ext cx="74520" cy="74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62440" y="3048120"/>
            <a:ext cx="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2400" y="3314880"/>
            <a:ext cx="74520" cy="74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38400" y="2990880"/>
            <a:ext cx="29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66760" y="3733920"/>
            <a:ext cx="247680" cy="19980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3240" y="3743280"/>
            <a:ext cx="247680" cy="20016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0320" y="3962520"/>
            <a:ext cx="247680" cy="19980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33520" y="4181400"/>
            <a:ext cx="247680" cy="20016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0" y="0"/>
                </a:moveTo>
                <a:lnTo>
                  <a:pt x="156" y="0"/>
                </a:lnTo>
                <a:lnTo>
                  <a:pt x="72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400" y="3762360"/>
            <a:ext cx="199800" cy="171360"/>
          </a:xfrm>
          <a:custGeom>
            <a:avLst/>
            <a:gdLst/>
            <a:ahLst/>
            <a:rect l="l" t="t" r="r" b="b"/>
            <a:pathLst>
              <a:path w="126" h="108">
                <a:moveTo>
                  <a:pt x="0" y="108"/>
                </a:moveTo>
                <a:lnTo>
                  <a:pt x="126" y="108"/>
                </a:lnTo>
                <a:lnTo>
                  <a:pt x="66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81600"/>
            <a:ext cx="199800" cy="171360"/>
          </a:xfrm>
          <a:custGeom>
            <a:avLst/>
            <a:gdLst/>
            <a:ahLst/>
            <a:rect l="l" t="t" r="r" b="b"/>
            <a:pathLst>
              <a:path w="126" h="108">
                <a:moveTo>
                  <a:pt x="0" y="108"/>
                </a:moveTo>
                <a:lnTo>
                  <a:pt x="126" y="108"/>
                </a:lnTo>
                <a:lnTo>
                  <a:pt x="66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69360" y="391464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74120" y="370512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407680" y="391464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521800" y="412416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02920" y="41148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017080" y="36957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17040" y="435276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50960" y="371484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27520" y="3746520"/>
            <a:ext cx="1616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33640" y="393372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13712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36880" y="4133880"/>
            <a:ext cx="16200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1200" y="3943440"/>
            <a:ext cx="1616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915640" y="42609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896560" y="407664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67920" y="407052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03400" y="389268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2160" y="3879720"/>
            <a:ext cx="7488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884320" y="370836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245760" y="409572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74400" y="425448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245760" y="42609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71484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79720" y="387360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83160" y="3917880"/>
            <a:ext cx="17748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79720" y="408312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83120" y="4229280"/>
            <a:ext cx="177840" cy="298440"/>
          </a:xfrm>
          <a:custGeom>
            <a:avLst/>
            <a:gdLst/>
            <a:ahLst/>
            <a:rect l="l" t="t" r="r" b="b"/>
            <a:pathLst>
              <a:path w="112" h="188">
                <a:moveTo>
                  <a:pt x="0" y="0"/>
                </a:moveTo>
                <a:lnTo>
                  <a:pt x="112" y="80"/>
                </a:lnTo>
                <a:lnTo>
                  <a:pt x="112" y="188"/>
                </a:lnTo>
                <a:lnTo>
                  <a:pt x="4" y="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639960" y="387360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23560" y="40068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664800" y="4057560"/>
            <a:ext cx="7452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30040" y="419112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3080" y="416556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033080" y="4343400"/>
            <a:ext cx="7452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24240" y="4476600"/>
            <a:ext cx="74880" cy="74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36880" y="384192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27320" y="3962520"/>
            <a:ext cx="74880" cy="74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8952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4560" y="488952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88952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35200" y="4889520"/>
            <a:ext cx="11448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1640" y="474984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1960" y="474336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62280" y="474336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29080" y="474336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9040" y="4597560"/>
            <a:ext cx="114120" cy="1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89360" y="459108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1520" y="457200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1840" y="4572000"/>
            <a:ext cx="11412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1240" y="484488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44760" y="470520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2160" y="4565520"/>
            <a:ext cx="11412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1480" y="4946760"/>
            <a:ext cx="114480" cy="1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5320" y="4946760"/>
            <a:ext cx="114480" cy="108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94760" y="1353960"/>
            <a:ext cx="2968200" cy="5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odel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dispartigo de konstrukcio je konformaj elemento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19360" y="2019240"/>
            <a:ext cx="209520" cy="876240"/>
          </a:xfrm>
          <a:prstGeom prst="downArrow">
            <a:avLst>
              <a:gd name="adj1" fmla="val 50000"/>
              <a:gd name="adj2" fmla="val 1045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704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936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360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3840" y="176040"/>
          <a:ext cx="4140360" cy="668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76040"/>
                    <a:ext cx="414036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144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124680" y="2867040"/>
            <a:ext cx="285480" cy="10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0840" y="154440"/>
            <a:ext cx="4583160" cy="66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raba ele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Dividu konstrukcion je elementoj (chi tie 1-dimensia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Por chiu elemento prikalkulu ghian rigidecon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itan akson helpe de potenca sumo kun n=4 parametroj,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0  1  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‘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0  0  2  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=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r randoj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=0  kaj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=L oni ric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1 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L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1   2L   3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j fin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w‘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EJw‘‘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D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 ekvacio de virtuala laboro ni prikalkulos serchatan rigideco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]* [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 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]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nfin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ж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53040" y="3924360"/>
            <a:ext cx="809640" cy="74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2867040"/>
            <a:ext cx="971280" cy="10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2120" y="2819520"/>
            <a:ext cx="819000" cy="838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91280" y="3924360"/>
            <a:ext cx="162000" cy="74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828880"/>
            <a:ext cx="162000" cy="74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46800" y="3266640"/>
            <a:ext cx="1120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2876400"/>
            <a:ext cx="285480" cy="10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05200" y="2838600"/>
            <a:ext cx="189000" cy="8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6480" y="3933720"/>
            <a:ext cx="188640" cy="8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9080" y="32871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924360"/>
            <a:ext cx="82728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02960" y="534312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41160" y="57020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1320" y="53478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36560" y="59972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88880" y="62924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47880" y="6342480"/>
            <a:ext cx="213660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6840" y="635760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547128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0880" y="614160"/>
            <a:ext cx="303984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  0         0   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1         0   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e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-2/L     3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-1/L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1/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-2/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1/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5087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  =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1057320"/>
            <a:ext cx="2171520" cy="12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72240" y="2266920"/>
            <a:ext cx="188604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53160" y="1000080"/>
            <a:ext cx="188604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094200"/>
            <a:ext cx="135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=  EJ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15080" y="1527840"/>
            <a:ext cx="7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=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9480" y="614160"/>
            <a:ext cx="303984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umera kalkulado gvidos al sekvantaj rezulto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0       0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1       0   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L    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1       2L     3L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685960"/>
            <a:ext cx="1609560" cy="12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35000" y="3895560"/>
            <a:ext cx="1397160" cy="10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33560" y="2619360"/>
            <a:ext cx="138132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1120" y="1076400"/>
            <a:ext cx="1609920" cy="12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87680" y="2286000"/>
            <a:ext cx="139680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85880" y="1009800"/>
            <a:ext cx="138132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30320" y="2511000"/>
            <a:ext cx="210672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4     1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0    1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36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0000" y="306576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 EJ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38840" y="2629080"/>
            <a:ext cx="1609560" cy="12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040" y="3838680"/>
            <a:ext cx="139716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2562120"/>
            <a:ext cx="138096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31000" y="2435040"/>
            <a:ext cx="210636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 0     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0     4L     6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0    6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2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5280" y="304740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344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56080" y="287748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4120" y="50284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Rigideco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de traba elemento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2960" y="4520880"/>
            <a:ext cx="21160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      6L     -12     6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       4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-6L    2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      -6L     12    -6L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6L    4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33640" y="50043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  =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5560" y="4448160"/>
            <a:ext cx="1686240" cy="12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6800" y="5657760"/>
            <a:ext cx="1463760" cy="104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05360" y="4381560"/>
            <a:ext cx="144612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44920" y="4899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3800" y="51206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2200" y="5153040"/>
            <a:ext cx="27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4740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6972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5396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280" y="452520"/>
          <a:ext cx="4140360" cy="66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2520"/>
                    <a:ext cx="4140360" cy="66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214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55920" y="219600"/>
            <a:ext cx="4583160" cy="69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ksita trabo + distribuita forto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Por fiksita trabo prikalkulu nodajn reakciojn 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itan akson (transloko-funkcio w) helpe de potenca sumo kun n=4 parametroj,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aj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kvacio de virtuala laboro liveros serchatajn nodofortoj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u="sng" baseline="-25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 = [1 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-3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 + 2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  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,  3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 -2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 -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/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nfin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93640" y="331416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4400" y="3001680"/>
            <a:ext cx="2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18480" y="332856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55360" y="271116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6280" y="302544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7000" y="473796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78880" y="4828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59800" y="50918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2800" y="4903920"/>
            <a:ext cx="61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91120" y="509580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543560"/>
            <a:ext cx="41904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38960" y="4495680"/>
            <a:ext cx="2379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58040" y="5657760"/>
            <a:ext cx="2379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4704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6936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5360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09520" y="414360"/>
          <a:ext cx="4140360" cy="66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414360"/>
                    <a:ext cx="4140360" cy="66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244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27640" y="292680"/>
            <a:ext cx="4487760" cy="66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riangula elemento de dis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Dividu konstrukcion je elementoj (chi tie 2-dimensia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Por chiu elemento prikalkulu ghian rigidecon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ojn helpe de transloko-funkcioj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0  0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[0  0  0  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]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or nodo-punktoj (i, j, k) la funkcio-valoroj 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0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a   0    0   0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c    h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   h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1   0    0   0   0   {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 0   0   0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 1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0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0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D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0   (1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/2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2828880"/>
            <a:ext cx="1620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22920" y="3108600"/>
            <a:ext cx="1121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55240" y="3258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0760" y="6060960"/>
            <a:ext cx="5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97000" y="569988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2571840"/>
            <a:ext cx="28584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52920" y="2514600"/>
            <a:ext cx="189000" cy="12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62640" y="417204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2538360"/>
            <a:ext cx="1324080" cy="16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514600"/>
            <a:ext cx="1116000" cy="79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51520" y="4181400"/>
            <a:ext cx="107640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53280" y="2581200"/>
            <a:ext cx="28548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10160" y="2523960"/>
            <a:ext cx="189000" cy="12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19880" y="418140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10120" y="340056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1800" y="2571840"/>
            <a:ext cx="0" cy="158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67200" y="4538520"/>
            <a:ext cx="1133640" cy="94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98960" y="4495680"/>
            <a:ext cx="882720" cy="9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70520" y="5440320"/>
            <a:ext cx="9079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91280" y="4508640"/>
            <a:ext cx="132408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81640" y="4467240"/>
            <a:ext cx="1116000" cy="73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08640" y="5427720"/>
            <a:ext cx="1076400" cy="4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5240" y="4849200"/>
            <a:ext cx="17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        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7040" y="627696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5440" y="5813280"/>
            <a:ext cx="1095480" cy="90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2520" y="5772240"/>
            <a:ext cx="853920" cy="8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05520" y="6672240"/>
            <a:ext cx="878040" cy="7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5857920"/>
            <a:ext cx="285840" cy="84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10120" y="5829480"/>
            <a:ext cx="189000" cy="6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19840" y="6680160"/>
            <a:ext cx="171360" cy="4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9360" y="603396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77240" y="5823000"/>
            <a:ext cx="31428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40600" y="5791320"/>
            <a:ext cx="208080" cy="68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49960" y="6696000"/>
            <a:ext cx="189000" cy="47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2040" y="6394680"/>
            <a:ext cx="215424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{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71440" y="1362240"/>
            <a:ext cx="2971800" cy="1209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000240"/>
            <a:ext cx="2971800" cy="1209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89480" y="937080"/>
            <a:ext cx="229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ж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{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 vol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45760" y="658080"/>
            <a:ext cx="27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 ekvacio de virtuala laboro oni ricevos rigide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2720" y="933120"/>
            <a:ext cx="2538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1281960"/>
            <a:ext cx="349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ni rimarku, ke matricoj C kaj D enhavas nur konstant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lementoj, do oni integaciaj nur volumon lau de vol, k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0" y="1841760"/>
            <a:ext cx="218196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ol) 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8720" y="2342520"/>
            <a:ext cx="182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kie inverso de matrico A egal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60960" y="2861640"/>
            <a:ext cx="53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9200" y="2696400"/>
            <a:ext cx="59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01400" y="2934720"/>
            <a:ext cx="665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2685960"/>
            <a:ext cx="771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72240" y="2638440"/>
            <a:ext cx="6285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72240" y="3257640"/>
            <a:ext cx="6285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8200" y="2829960"/>
            <a:ext cx="59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15920" y="2537280"/>
            <a:ext cx="108900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h       h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    -c    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00880" y="2495520"/>
            <a:ext cx="93348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00880" y="3343320"/>
            <a:ext cx="93348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63160" y="24534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60800" y="3083400"/>
            <a:ext cx="40053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Transpono de rigideco al globalaj koordinat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kazas lau transponanto T, liganta fortoarojn de loka (</a:t>
            </a: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) kaj globala (xy) koordinat-sistemo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i  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       0      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0         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j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      0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k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 0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      -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yi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0         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yj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0      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0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yk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  0      cos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W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57440" y="1724040"/>
            <a:ext cx="218880" cy="447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86080" y="1752480"/>
            <a:ext cx="219240" cy="447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14680" y="3648240"/>
            <a:ext cx="1047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14880" y="3666960"/>
            <a:ext cx="104760" cy="9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19440" y="3591000"/>
            <a:ext cx="1495440" cy="95040"/>
          </a:xfrm>
          <a:custGeom>
            <a:avLst/>
            <a:gdLst/>
            <a:ahLst/>
            <a:rect l="l" t="t" r="r" b="b"/>
            <a:pathLst>
              <a:path w="942" h="60">
                <a:moveTo>
                  <a:pt x="0" y="60"/>
                </a:moveTo>
                <a:cubicBezTo>
                  <a:pt x="146" y="30"/>
                  <a:pt x="293" y="0"/>
                  <a:pt x="450" y="0"/>
                </a:cubicBezTo>
                <a:cubicBezTo>
                  <a:pt x="607" y="0"/>
                  <a:pt x="860" y="50"/>
                  <a:pt x="942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390840" y="2200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62200" y="2190600"/>
            <a:ext cx="0" cy="14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86040" y="1798560"/>
            <a:ext cx="1390680" cy="135000"/>
          </a:xfrm>
          <a:custGeom>
            <a:avLst/>
            <a:gdLst/>
            <a:ahLst/>
            <a:rect l="l" t="t" r="r" b="b"/>
            <a:pathLst>
              <a:path w="876" h="85">
                <a:moveTo>
                  <a:pt x="0" y="79"/>
                </a:moveTo>
                <a:cubicBezTo>
                  <a:pt x="143" y="39"/>
                  <a:pt x="286" y="0"/>
                  <a:pt x="432" y="1"/>
                </a:cubicBezTo>
                <a:cubicBezTo>
                  <a:pt x="578" y="2"/>
                  <a:pt x="727" y="43"/>
                  <a:pt x="876" y="85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84640" y="35294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60240" y="17722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91040" y="4343400"/>
            <a:ext cx="3621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57640" y="4305240"/>
            <a:ext cx="2383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67360" y="6210360"/>
            <a:ext cx="23796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25000" y="4352760"/>
            <a:ext cx="3999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91600" y="4314960"/>
            <a:ext cx="23796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00960" y="6219720"/>
            <a:ext cx="238320" cy="7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14840" y="4352760"/>
            <a:ext cx="2743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314960"/>
            <a:ext cx="24847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8760" y="6219720"/>
            <a:ext cx="2484360" cy="74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28000" y="520632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32160" y="26377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13240" y="2618640"/>
            <a:ext cx="3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72120" y="3661920"/>
            <a:ext cx="43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6600" y="1526760"/>
            <a:ext cx="456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22720" y="1469520"/>
            <a:ext cx="42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36400" y="3614400"/>
            <a:ext cx="39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03680" y="2882160"/>
            <a:ext cx="34668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1243800"/>
            <a:ext cx="333000" cy="276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39280" y="4709520"/>
            <a:ext cx="23493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ideco en globalaj koordin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81400" y="20480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62400" y="1276200"/>
            <a:ext cx="0" cy="1543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44680" y="1169640"/>
            <a:ext cx="58230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met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(c-a) 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(c-a)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ac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1143000"/>
            <a:ext cx="5743440" cy="185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2943360"/>
            <a:ext cx="537228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76440" y="1076400"/>
            <a:ext cx="5372280" cy="123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28720" y="17820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60160" y="2061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h(1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23120" y="1924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15480" y="686520"/>
            <a:ext cx="21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gideco en lokalaj koordinat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18280" y="281880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*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40200" y="3108960"/>
            <a:ext cx="962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1-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1+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o de konstrute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25360" y="2490840"/>
            <a:ext cx="452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47400" y="2540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7680" y="3298680"/>
            <a:ext cx="447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69720" y="33465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9040" y="3265560"/>
            <a:ext cx="241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84360" y="2543040"/>
            <a:ext cx="239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31920" y="2600280"/>
            <a:ext cx="45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53960" y="2649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8400" y="3341520"/>
            <a:ext cx="44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60080" y="33926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9520" y="325440"/>
          <a:ext cx="414036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325440"/>
                    <a:ext cx="414036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9" name=""/>
          <p:cNvGrpSpPr/>
          <p:nvPr/>
        </p:nvGrpSpPr>
        <p:grpSpPr>
          <a:xfrm>
            <a:off x="4686480" y="1181160"/>
            <a:ext cx="171360" cy="1179360"/>
            <a:chOff x="4686480" y="1181160"/>
            <a:chExt cx="171360" cy="1179360"/>
          </a:xfrm>
        </p:grpSpPr>
        <p:sp>
          <p:nvSpPr>
            <p:cNvPr id="360" name=""/>
            <p:cNvSpPr/>
            <p:nvPr/>
          </p:nvSpPr>
          <p:spPr>
            <a:xfrm>
              <a:off x="4695840" y="2286000"/>
              <a:ext cx="1620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86480" y="1181160"/>
              <a:ext cx="1616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419720" y="473760"/>
            <a:ext cx="448776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ektangula elemento de dis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Dividu konstrukcion je elementoj (chi tie 2-dimensia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Por chiu elemento prikalkulu ghian rigidecon 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 lokaj koordinatoj de elemento oni priskribu ghian deformojn helpe de transloko-funkcioj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0  0  0  0  ]{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[0  0  0   0  1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or nodo-punktoj (i, j, k, l) la funkcio-valoroj e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0    0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0   0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a   0    0   0   0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0    h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l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a    h   ah 0   0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i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   0 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j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  0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k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   0   h  0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l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 0  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  h ah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1   0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0   0   0   0  {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0   0   0   0   1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= 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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0   1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1   0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ie la atrechoj estas liniaj funkcioj 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0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  0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=  D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     0   (1-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/2     </a:t>
            </a: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62840" y="4448160"/>
            <a:ext cx="16164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2828880"/>
            <a:ext cx="16200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6280" y="3198960"/>
            <a:ext cx="1130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jk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60760" y="6060960"/>
            <a:ext cx="59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-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97000" y="5699880"/>
            <a:ext cx="254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05400" y="2867040"/>
            <a:ext cx="28584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62640" y="2809800"/>
            <a:ext cx="188640" cy="12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446724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2819520"/>
            <a:ext cx="16765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68800" y="2819520"/>
            <a:ext cx="1438200" cy="792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819520"/>
            <a:ext cx="285480" cy="16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62600" y="2743200"/>
            <a:ext cx="189000" cy="12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72320" y="4400640"/>
            <a:ext cx="171360" cy="8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38800" y="3686040"/>
            <a:ext cx="24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9480" y="2857680"/>
            <a:ext cx="0" cy="158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7200" y="4538520"/>
            <a:ext cx="1133640" cy="94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98960" y="4495680"/>
            <a:ext cx="882720" cy="9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70520" y="5440320"/>
            <a:ext cx="907920" cy="74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00640" y="4575240"/>
            <a:ext cx="174312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19800" y="4533840"/>
            <a:ext cx="1470240" cy="73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54720" y="5494320"/>
            <a:ext cx="1417680" cy="4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5240" y="4849200"/>
            <a:ext cx="17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        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48240" y="627696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57920" y="5780160"/>
            <a:ext cx="109548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85000" y="5743440"/>
            <a:ext cx="853920" cy="7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58000" y="6556320"/>
            <a:ext cx="877680" cy="6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05360" y="5818320"/>
            <a:ext cx="285840" cy="76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62600" y="5791320"/>
            <a:ext cx="189000" cy="5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71960" y="6561000"/>
            <a:ext cx="171720" cy="3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9360" y="6033960"/>
            <a:ext cx="85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=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39080" y="5772240"/>
            <a:ext cx="314280" cy="81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02440" y="5743440"/>
            <a:ext cx="208080" cy="61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12160" y="6567480"/>
            <a:ext cx="188640" cy="4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2040" y="6394680"/>
            <a:ext cx="2154240" cy="3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{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32560" y="34632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87880" y="4419720"/>
            <a:ext cx="1438200" cy="1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5:29:06Z</dcterms:created>
  <dc:creator>Martin</dc:creator>
  <dc:description/>
  <dc:language>en-US</dc:language>
  <cp:lastModifiedBy>Rudolf</cp:lastModifiedBy>
  <dcterms:modified xsi:type="dcterms:W3CDTF">2004-02-22T10:45:27Z</dcterms:modified>
  <cp:revision>14</cp:revision>
  <dc:subject/>
  <dc:title>Kein Folientitel</dc:title>
</cp:coreProperties>
</file>