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B75-5F57-4D28-8C92-0D67E5F3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21A-DB5A-406D-AEDB-194D9CC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721-739F-4406-8D27-E0167414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43E-3608-4899-A64E-C4C2200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775-BC88-402E-817F-7B08539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50D-9E7C-40BA-8586-28078C06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A71-C3F6-4551-8E1B-3EDAAB0E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86A-B116-44CD-ADFB-9B8062B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279-E2ED-4884-B1E7-2EA9377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8AC-0151-4673-828A-A428A4E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9C-B631-48ED-8EAD-EC0646D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8BB-A56F-4544-98D5-0D1A4A6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8CB8-535A-4ED9-A99B-7136C2D9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19320"/>
            <a:ext cx="80010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eknikaj mezurunuoj lau  DIN 1301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arto 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omoj kaj simboloj de mezur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i-tiu normo kongruas laufakte vaste kun la internacia normo ISO 1000-1981;  vidu la komentario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hi konsideras kun la rezolucioj de la 17a Ghenerala Konferenco pri Mezuro kaj Pezo (CGPM), 198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plikosfero kaj c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 tiu normo estas listigitaj la mezurunuoj de la Sistemo Internacia de Unuoj (SI) kaj kelka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uaj rekomenditaj mezurunuoj kaj prefiksoj por decimalaj frakcioj kaj obloj de mezur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henerale aplikataj partoj kaj obloj de la SI-unuoj kaj pluraj rekomenditaj mezurunuoj estas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unmetitaj en  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02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rto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rilatoj de transkalkulo por ne plu aplikeblaj mezurunuoj, 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0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parto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oj kaj simboloj aplikataj simile kiel mezurunuoj, vidu suplementa folio al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0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par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762520"/>
            <a:ext cx="73915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*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sperantigita germana normo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 130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parto 1, eldono 12.8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radukis:  Rudolf Koppel  - kun afabla tradukpermeso de  Germana Instituto por Normigado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i-tiu traduko ne estis kontrolita pere  "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- Germana  Instituto  por Normigado",  Berl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482760">
              <a:lnSpc>
                <a:spcPct val="100000"/>
              </a:lnSpc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Originala titolo: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Deutsche Norm DIN 1301-1,  Einheiten, Einheitennamen, Einheitenzeichen, Dez. 19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7913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35040" y="482760"/>
          <a:ext cx="607212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482760"/>
                    <a:ext cx="607212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95440" y="333360"/>
          <a:ext cx="764856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333360"/>
                    <a:ext cx="76485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09480" y="0"/>
          <a:ext cx="6686640" cy="88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668664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086600" y="5181480"/>
            <a:ext cx="1905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3)  Ne apliki kun prefiks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5)  Tiu simbolo ne est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ternacie normig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6)  Ne ekzistas internac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ormigita unuo-simbo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his nun estis aplikata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84200" y="762120"/>
          <a:ext cx="7759800" cy="45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762120"/>
                    <a:ext cx="77598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533520"/>
            <a:ext cx="7848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oci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zurunuoj kaj sistemoj de mezurunuoj - 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SI-bazounuoj kaj la derivitajn SI-unuojn oni nomas SI-unuo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imarko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:   La nomo  "Sistemo Internacia de Unuoj"  (France: "Systeme International d' Unites") ka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mallongigo SI estis determinitaj en 1960 sur la 11a Ghenerala Konferenco pri Mezuro kaj Pez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CGPM). Klaran informacio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la internacia sistemo de unuoj oni trovas en la publikajho d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acia Buroo por Mezuro kaj Pezo, sub titolo: La sistemo internacia de unuoj (France: "L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ysteme International d' Unites"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bazo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SI-bazounuoj estas prezentataj en tabelo 1. El ili oni povas derivigi chiujn aliajn unuojn de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stemo. Difinoj de  SI-bazo-unuoj vidu suplementon 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 estas koherentaj (kun nombrofaktoro 1) produtoj, kvocientoj au potenco-produt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SI-bazo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g/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por trafluo de m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por elektra kv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/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por fo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j SI-unuoj kun aparta nomo kaj aparta unuosimbolo vidu tabelon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15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Prezentado de derivitaj SI-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rivita SI-unuo povas esti esprimata per nomoj de SI-bazounuoj au plurmaniere kun apartaj nom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derivitaj SI-unu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r pli bona diferencigo inter samdimensiaj grandoj, oni povas preferi certajn nomojn au kombinoj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por fortomomanto: njutenmetro (N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 anstatau la jul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por frekvenco de perioda procezo: herco (Hz), kaj por aktiveco de radiumaktiv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substanco la  bekerelon (Bq) anstatau reciprokan sekundon 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nuoj ekstere de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- vidu tabe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09480"/>
            <a:ext cx="85345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ecimalaj partoj kaj obloj de unu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cimalaj partoj kaj obloj de unuoj estas formataj helpe de prefiksoj kaj prefikso-simboloj lau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abelo 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prefiksoj kaj prefikso-simboloj estas aplikataj nur kune kun unuonomoj kaj  -simbol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efikso-simbolo estas skribata sen interspaco antau la unuosimbolo. La prefikso-simbolo ku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 formas la simbolon de nova mezurunu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sponento che unuosimbolo validas ankau por la prefiksosimbolo ekzemple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c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 = 1/(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) = 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Hz = 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stas malpermesite kunmeti plurajn prefiksoj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e, por  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oni povas skribi 1 nm (nanometro) - sed ne 1 m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 (milimikromet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efiksojn oni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rajtas uzadi al SI-bazounuo kilogramo (kg), sed  nur al unuo gramo (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 algn="just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tabLst>
                <a:tab algn="l" pos="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  <a:tab algn="l" pos="88012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iligramo (mg),  sed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mikrokilogramo (kg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19040"/>
                <a:tab algn="l" pos="838080"/>
                <a:tab algn="l" pos="1257480"/>
                <a:tab algn="l" pos="1676520"/>
                <a:tab algn="l" pos="2095560"/>
                <a:tab algn="l" pos="2514600"/>
                <a:tab algn="l" pos="2933640"/>
                <a:tab algn="l" pos="3352680"/>
                <a:tab algn="l" pos="3772080"/>
                <a:tab algn="l" pos="4191120"/>
                <a:tab algn="l" pos="4610160"/>
                <a:tab algn="l" pos="5029200"/>
                <a:tab algn="l" pos="5448240"/>
                <a:tab algn="l" pos="5867280"/>
                <a:tab algn="l" pos="6286680"/>
                <a:tab algn="l" pos="6705720"/>
                <a:tab algn="l" pos="7124760"/>
                <a:tab algn="l" pos="7543800"/>
                <a:tab algn="l" pos="7962840"/>
                <a:tab algn="l" pos="8381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9480"/>
            <a:ext cx="80010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plikado de unuoj kun prefiks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munikante mezurgrandojn, oni povas celkonforme elekti prefiksojn tiel, ke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brovaloroj estu inter 0,1 kaj 1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vas esti skribot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2 k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,94 m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0,00394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,401 kPa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401 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 ns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,1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 aL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statau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  <a:tab algn="l" pos="5587920"/>
                <a:tab algn="l" pos="5842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e de valortabelo devas esti aplikata nur unu prefikso che la unuo, ankau tiam, kiam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kve de tio kelkaj nombrovaloroj estos ekster de aro ( 0,1 ... 10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85800"/>
            <a:ext cx="78487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rtikolo de unuonomoj kaj skribmaniero de unuosimbol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rtikoloj de unuonomoj koncernas nur la germanan lingv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j estas skribataj per grandaj literoj, se la unuonomo estas devenigita d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pra nomo, alikaze per malgranda litero (escepto:  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simboloj estas skribataj orte (rekte) sendepende de la titer-tipo en cetera teksto;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idu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38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 Gi estas skribata en grando-donitajhoj post la nombrovaloro, aplikant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spacon inter nombrovaloro kaj unuosimbolo (esceptoj:  °,  ',  "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dutojn de unuoj oni prezentas lau unu el la sekvantaj manieroj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,  N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plikante unuosimbolon, kiu egalas kun prefikso-simbolo, oni devas skribi la faktoro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iel, ke erara intershango ne estu eb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unuo njutenmetro por la fortomomento devas esti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kribita  Nm  au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,  sed ne mN, por ke ne intershangi ghin kun mili-njuteno (m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85800"/>
            <a:ext cx="80769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vocientojn de unuoj oni prezentas lau unu el sekvantaj manieroj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zu frakciostrekon (klinita au horizontala) -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/s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u potencoproduton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 oni aplikas klinitan frakciostrekon kaj en la nomanto aperas pluraj unuosimboloj,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iam la plursenso devas esti evitita per uzuado de krampo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I-unuo de varmokondutivo devas esti skrib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e   W/K/m ,    sed    W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au      W/(K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 la unuo posedas formon de potenco kun negativa eksponento, oni povas skribi ghi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iel frakcio kun  1  en numera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kzemplo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1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1  devas esti forlasita se la unuo estas multiplikata p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ombro,  ekzemple:   3000 s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3000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permashina redono de unuonomoj kaj prefiksoj pere de komputilo kun limigit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vizo de presliteroj - vidu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 DIN 66030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8077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plemento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finoj de bazounuoj de „Sistemo Internacia de Unuoj“, fiksitaj pere de „Ghenerala Konferenco por Mezuro kaj Pezo” (France: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Conférence Génerale des Poids et Mesures  -  CGP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etro estas longo de distanco, kiun trakuras la lumo en vakuo dum dauro da  1/299 792 458 sekundo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7. CGPM (1983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2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ilogr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ilogramo estas unuo de maso; ghi egalas al maso de internacia kilogramo-specimeno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. CGPM (1889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kaj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3. CGPM (1901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3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ku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ekundo estas dauro da 9 192 631 770 radiado-periodoj de nuklido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33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s, se giaj atomoj transiras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 du superfajnaj strukturniveloj de elementa stato.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(1967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4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m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mpero estas intenso de konstanta kurento, kiu trapasante du paralelajn, rektoliniajn, senfine longa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onduktilojn de neglektebla tratrancho, trovighantaj en vakuo je distanco da  1 metro, generas int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i-tiuj konduktiloj forton da 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-17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njutenoj po metro de konduktil-lon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CGPM (1946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, akceptita fare de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9. CGOM (1948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533520"/>
            <a:ext cx="822960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5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lv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elvino, la unuo de termodinamika temperaturo, estas la 273,16ona parto da termodinamik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emperaturo de triobla punkto de akvo. 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(1967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imarko 1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3. CGPM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cidis, ke la unuo Kelvino kaj ghia unuosimbolo  K  povas esti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plikata por esprimi temperatur-diferen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imarko 2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i indikado de celsius-temperaturo t = T -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kun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= 273,15 K, oni aplikas la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nuonomon Celsius-grado (unuosimbolo:  °C) kiel aparta nomo por la Kelv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 diferencon de du celsius-temperaturoj oni povas ankau esprimi pere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elsiusgradoj. Vidu ankau  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DIN 13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olo estas kvanto da materio de sistemo, kiu entenas tiom da unuopaj  partikloj, kiom da atom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tenas 0,012 kg da karbo-nuklido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 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. Che uzado de molo oni devas specifi unuopaj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rtiklojn, kiuj povas esti atomoj, molekuloj, jonoj, elektronoj, same kiel aliaj partikloj au grupoj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 tiuj partikloj kun precize indikita kunmeto. 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4. CGPM (1971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.6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and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andelo estas intenso de lumo en fiksita direkto de radiad-fonto, elsendanta monokromata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adiadon je frekvenco da 54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Hz, kaj kies energiofonto en chi-tiu direkto egalas  (1/683) vato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 steradiano. (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16. CGPM (1979)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105408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13:07:49Z</dcterms:created>
  <dc:creator>Rudolf</dc:creator>
  <dc:description/>
  <dc:language>en-US</dc:language>
  <cp:lastModifiedBy>Rudolf</cp:lastModifiedBy>
  <dcterms:modified xsi:type="dcterms:W3CDTF">2004-02-08T11:31:26Z</dcterms:modified>
  <cp:revision>9</cp:revision>
  <dc:subject/>
  <dc:title>Kein Folientitel</dc:title>
</cp:coreProperties>
</file>