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BB5-6407-4F78-BAB3-824D8B67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A30-C6AC-4F9F-98B2-66BB54CE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F6E-265F-47C4-AF9F-178943DA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1D1-B8EC-47C3-97E9-6AAE3487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274-E505-4BF5-81E0-5B171D0F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E8D-CB9D-4945-AC20-3FF177B7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4CF-CDB3-464A-A3B6-FDE7F957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AFE-BDD7-4B56-8619-388CED9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1FD9-E70C-4B79-B44E-D185BC95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FB2-4D0A-4FDF-A205-1B76A64B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9D0-9BC6-4E40-8377-3DA21F8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8A3-356C-4B11-B749-8F8258B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1875-3AA2-460A-88CA-D8613D242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esktop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indek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5480" y="914400"/>
            <a:ext cx="218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udolf  Ko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0"/>
            <a:ext cx="2590920" cy="6858000"/>
          </a:xfrm>
          <a:prstGeom prst="rect">
            <a:avLst/>
          </a:prstGeom>
          <a:solidFill>
            <a:srgbClr val="b7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200400"/>
            <a:ext cx="5334120" cy="3124080"/>
          </a:xfrm>
          <a:prstGeom prst="rect">
            <a:avLst/>
          </a:prstGeom>
          <a:solidFill>
            <a:srgbClr val="b7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71840" y="3429000"/>
            <a:ext cx="19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Put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9640" y="3914640"/>
            <a:ext cx="208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sa komercado per op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/>
          </p:cNvPr>
          <p:cNvSpPr/>
          <p:nvPr/>
        </p:nvSpPr>
        <p:spPr>
          <a:xfrm>
            <a:off x="3371760" y="5305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Enha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76200" y="56674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Bazono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62360" y="5648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3333cc"/>
                </a:solidFill>
                <a:latin typeface="Arial"/>
              </a:rPr>
              <a:t>FX </a:t>
            </a: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-Strateg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76440" y="5657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3333cc"/>
                </a:solidFill>
                <a:latin typeface="Arial"/>
              </a:rPr>
              <a:t>U -</a:t>
            </a: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Strateg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86440" y="56577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cc"/>
                </a:solidFill>
                <a:latin typeface="Arial"/>
              </a:rPr>
              <a:t>Futurum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838080"/>
            <a:ext cx="236232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zentata estas nova priskrib-metodo de borsaj strategioj per opcioj, surbaze de kibernetikaj premisoj .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u metodo esence faciligas ekkomprenon kaj studadon de opciaj strategioj same por komencantoj kiel por fakuloj.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Ĝi ebligas komplekse analizi opciostrukturon sen trouzado da verbaj klarigoj, kaj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rafike sekvi ĉiujn aspektoj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 - altigi kvaliton de instru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to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4876920"/>
            <a:ext cx="236232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Indikoj por uzant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Tiuj modjuloj estas provizore disponeblaj nur kiel 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prezentaĵo, do  platform-depend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onvolu ĉiam elekti la reĝimon "ekran-prezentado"  kiel vidig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2560" y="4295880"/>
            <a:ext cx="95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mpen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3238560" y="534348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1143000" y="57150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2371680" y="570564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3648240" y="570564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991040" y="570564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8840" y="2986200"/>
            <a:ext cx="108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MS PowerPoint *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1:41:51Z</dcterms:created>
  <dc:creator>Martin</dc:creator>
  <dc:description/>
  <dc:language>en-US</dc:language>
  <cp:lastModifiedBy>Martin</cp:lastModifiedBy>
  <dcterms:modified xsi:type="dcterms:W3CDTF">2005-12-01T13:57:44Z</dcterms:modified>
  <cp:revision>3</cp:revision>
  <dc:subject/>
  <dc:title>indekso</dc:title>
</cp:coreProperties>
</file>